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DFB4-6CA8-4452-B1D7-16BAF162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B516-47F5-4D9D-BE31-59E8D994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48B8-30B6-4C2C-B913-102B91273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7CEB-6E43-48B2-A847-C2DFD484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517C-E620-44F0-A351-B16A6110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AF0F-9716-417A-A2B6-3CB9E1B0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1C74-3817-4A0F-B2CD-DCCC1EAD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2BB1-CE71-4814-B152-370AAB47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7E27-9E26-4405-B5C3-5B82FCEB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49A6-A5CF-4B3B-8B21-F89C93D8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0284-EF05-4B58-8BA3-AE4A03F3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B33A-8767-4441-BFB4-F136C2A7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D0DF-D8D5-4215-A3F5-B4E4859F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52A2-6131-4DC0-83D2-EE33CF1A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0D04-112B-47ED-851A-942F100E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43E4-95DE-46BF-A02B-5B97BFBC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BE66-89AB-4B35-A625-85D8B946C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0417B7-EE7A-4099-B754-EAA14A85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1F51FB-CA4C-4623-8BF5-BDEBA734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E1D438-6A93-438E-AAB2-0F8A0EBC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B2D23C-AE69-4B30-9674-94B15433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05026A-9953-4204-8944-9F29997D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E4F1-95D2-43D8-A420-E7612E76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35675D-7FEB-417A-A0B7-45120C76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0E7BED-F4F5-4953-9244-5F91063D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B645BC-3248-4525-9B50-2EE2721F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95A8D3-6CE7-4237-9E00-8BE378A6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DF5169-1EAC-4F1D-BDF8-4903A10F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CDBB0B-3F85-48F0-8063-123F0B64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2BDE91-E4DB-4DE0-93F7-E776CCF64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F1B41-81A0-4094-8FD0-5958AF76C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C784E-0149-42DC-9F31-D2F14384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24053-DC6D-491D-8F14-E066F1F5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FB23-AFBA-4085-93A7-B8E375BD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45708-0D56-4A03-9E97-63FB23EC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80B7F-CE40-4F3E-B09C-4A027377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02D0B-78A5-4177-88E2-21F27433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30B4B-3058-4897-9692-E849CD3A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05662-818F-4394-8A24-89C0F6B0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7AC54-9017-4DE2-B997-5F6DD7B7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8FCFD-3E87-473A-8B28-9FEDAB84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5F555-2924-422F-A271-1CA11F7A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AD663-5527-4FBD-80E4-283C8706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9F3D-46F1-46B0-B2DC-74F32DEC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0A43-4379-4748-BCF7-E8589BF5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C431-DC7A-4805-A6DF-62198D69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EFF0-E561-428F-8095-CC7D0DDA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74EE-E734-4E1D-9DEE-62F375F8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0494C3-8337-41B5-83C9-16B425F93840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1504DC-93CC-4482-8E4A-29C54E66BBF7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9DFE51-0CDB-442B-A99E-D16E3B607EB8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C43DBD-CC3C-443C-A45E-CC90A3926EBE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vXNxQFl1m0&amp;feature=youtube_gdata_player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4CJWjvWRzHs&amp;feature=youtube_gdata_player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youtube.com/watch?v=7NT1Dt_1FaY&amp;feature=youtube_gdata_player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youtube.com/watch?v=proFVv9AKu8&amp;feature=youtube_gdata_player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youtube.com/watch?v=NLJB66YWLG8&amp;feature=youtube_gdata_player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oodletools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noodletools.com/" TargetMode="External"/><Relationship Id="rId4" Type="http://schemas.openxmlformats.org/officeDocument/2006/relationships/hyperlink" Target="http://www.youtube.com/watch?v=ahJGDs-DHKU&amp;feature=youtube_gdata_player" TargetMode="External"/><Relationship Id="rId5" Type="http://schemas.openxmlformats.org/officeDocument/2006/relationships/hyperlink" Target="http://www.youtube.com/watch?v=ahJGDs-DHKU&amp;feature=youtube_gdata_player" TargetMode="External"/><Relationship Id="rId6" Type="http://schemas.openxmlformats.org/officeDocument/2006/relationships/hyperlink" Target="http://www.youtube.com/watch?v=ahJGDs-DHKU&amp;feature=youtube_gdata_player" TargetMode="External"/><Relationship Id="rId7" Type="http://schemas.openxmlformats.org/officeDocument/2006/relationships/hyperlink" Target="http://www.youtube.com/watch?v=ahJGDs-DHKU&amp;feature=youtube_gdata_player" TargetMode="Externa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youtube.com/watch?v=zmRv--YQfjk&amp;feature=youtube_gdata_player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4c600"/>
                </a:solidFill>
                <a:latin typeface="Century Gothic"/>
              </a:rPr>
              <a:t>Research Paper on a Physical Science Topic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Joan Kanya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Margaret Hickey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93360" y="1026720"/>
            <a:ext cx="7831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reating and Sharing Projec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o create a New Project—click on green plus sign that says “Create New Project”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ake sure to share project with teacher in the </a:t>
            </a:r>
            <a:r>
              <a:rPr b="0" lang="en-US" sz="2400" spc="-1" strike="noStrike" u="sng">
                <a:solidFill>
                  <a:srgbClr val="3e3d2d"/>
                </a:solidFill>
                <a:uFillTx/>
                <a:latin typeface="Century Gothic"/>
              </a:rPr>
              <a:t>correct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drop box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3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68200"/>
                </a:solidFill>
                <a:uFillTx/>
                <a:latin typeface="Century Gothic"/>
                <a:hlinkClick r:id="rId1"/>
              </a:rPr>
              <a:t>Creating New Project and Sharing with the Drop Box</a:t>
            </a:r>
            <a:r>
              <a:rPr b="0" lang="en-US" sz="24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en-US" sz="1200" spc="-1" strike="noStrike" u="sng">
                <a:solidFill>
                  <a:srgbClr val="3e3d2d"/>
                </a:solidFill>
                <a:uFillTx/>
                <a:latin typeface="Century Gothic"/>
              </a:rPr>
              <a:t>(click on link)</a:t>
            </a:r>
            <a:endParaRPr b="0" lang="en-US" sz="1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1" name="Picture 3" descr="Dropbox.png"/>
          <p:cNvPicPr/>
          <p:nvPr/>
        </p:nvPicPr>
        <p:blipFill>
          <a:blip r:embed="rId2"/>
          <a:stretch/>
        </p:blipFill>
        <p:spPr>
          <a:xfrm>
            <a:off x="6286680" y="4640400"/>
            <a:ext cx="1303200" cy="1303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reating a Bibliography Sourc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spcBef>
                <a:spcPts val="3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Choose citation type from drop down menu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Click “Start Citation” button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Then carefully fill in all categories that apply to your source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Submit” information when finished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3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68200"/>
                </a:solidFill>
                <a:uFillTx/>
                <a:latin typeface="Century Gothic"/>
                <a:hlinkClick r:id="rId1"/>
              </a:rPr>
              <a:t>How to Create a Bibliography Source on NoodleTools</a:t>
            </a:r>
            <a:r>
              <a:rPr b="0" lang="en-US" sz="24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en-US" sz="1200" spc="-1" strike="noStrike" u="sng">
                <a:solidFill>
                  <a:srgbClr val="3e3d2d"/>
                </a:solidFill>
                <a:uFillTx/>
                <a:latin typeface="Century Gothic"/>
              </a:rPr>
              <a:t>(click on link)</a:t>
            </a:r>
            <a:endParaRPr b="0" lang="en-US" sz="1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slow">
    <p:wipe dir="l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1" descr="cutcaster-photo-100194658-Stack-of-Index-Cards.jpg"/>
          <p:cNvPicPr/>
          <p:nvPr/>
        </p:nvPicPr>
        <p:blipFill>
          <a:blip r:embed="rId1"/>
          <a:stretch/>
        </p:blipFill>
        <p:spPr>
          <a:xfrm>
            <a:off x="289080" y="326880"/>
            <a:ext cx="8407080" cy="6235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reating a Note Car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68200"/>
                </a:solidFill>
                <a:uFillTx/>
                <a:latin typeface="Century Gothic"/>
                <a:hlinkClick r:id="rId2"/>
              </a:rPr>
              <a:t>How to create a Note Card in NoodleTools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(click on link)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slow">
    <p:wipe dir="l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bookstack.jpg"/>
          <p:cNvPicPr/>
          <p:nvPr/>
        </p:nvPicPr>
        <p:blipFill>
          <a:blip r:embed="rId1"/>
          <a:stretch/>
        </p:blipFill>
        <p:spPr>
          <a:xfrm>
            <a:off x="550800" y="457200"/>
            <a:ext cx="8047080" cy="64008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Bibliographies on NoodleTools can be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3d2d"/>
                </a:solidFill>
                <a:latin typeface="Century Gothic"/>
              </a:rPr>
              <a:t>Created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3d2d"/>
                </a:solidFill>
                <a:latin typeface="Century Gothic"/>
              </a:rPr>
              <a:t>Exported as a documen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3d2d"/>
                </a:solidFill>
                <a:latin typeface="Century Gothic"/>
              </a:rPr>
              <a:t>Printed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3d2d"/>
                </a:solidFill>
                <a:latin typeface="Century Gothic"/>
              </a:rPr>
              <a:t>Shared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ctr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68200"/>
                </a:solidFill>
                <a:uFillTx/>
                <a:latin typeface="Century Gothic"/>
                <a:hlinkClick r:id="rId2"/>
              </a:rPr>
              <a:t>How to Create, Export, Print and Share Bibiiography</a:t>
            </a:r>
            <a:r>
              <a:rPr b="1" lang="en-US" sz="1400" spc="-1" strike="noStrike">
                <a:solidFill>
                  <a:srgbClr val="3e3d2d"/>
                </a:solidFill>
                <a:latin typeface="Century Gothic"/>
              </a:rPr>
              <a:t>(click on link)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c600"/>
                </a:solidFill>
                <a:latin typeface="Century Gothic"/>
              </a:rPr>
              <a:t>Bibliography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p:transition spd="slow">
    <p:wipe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1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1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1" descr="cutcaster-photo-100194658-Stack-of-Index-Cards.jpg"/>
          <p:cNvPicPr/>
          <p:nvPr/>
        </p:nvPicPr>
        <p:blipFill>
          <a:blip r:embed="rId1"/>
          <a:stretch/>
        </p:blipFill>
        <p:spPr>
          <a:xfrm>
            <a:off x="0" y="363600"/>
            <a:ext cx="9280440" cy="612612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68200"/>
                </a:solidFill>
                <a:uFillTx/>
                <a:latin typeface="Century Gothic"/>
                <a:hlinkClick r:id="rId2"/>
              </a:rPr>
              <a:t>How to Sort and Tag Note Cards in NoodleTools </a:t>
            </a:r>
            <a:r>
              <a:rPr b="0" lang="en-US" sz="1400" spc="-1" strike="noStrike" u="sng">
                <a:solidFill>
                  <a:srgbClr val="3e3d2d"/>
                </a:solidFill>
                <a:uFillTx/>
                <a:latin typeface="Century Gothic"/>
              </a:rPr>
              <a:t>(click on this link)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Sorting and Tagging Notecard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p:transition spd="slow">
    <p:wipe dir="l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Outlin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042560" y="233352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 algn="ctr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e3d2d"/>
                </a:solidFill>
                <a:uFillTx/>
                <a:latin typeface="Century Gothic"/>
              </a:rPr>
              <a:t>How to Create an Outline from Note Cards on NoodleTools</a:t>
            </a:r>
            <a:r>
              <a:rPr b="0" lang="en-US" sz="1400" spc="-1" strike="noStrike" u="sng">
                <a:solidFill>
                  <a:srgbClr val="3e3d2d"/>
                </a:solidFill>
                <a:uFillTx/>
                <a:latin typeface="Century Gothic"/>
              </a:rPr>
              <a:t> (click on link)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ote cards can easily be dragged to the outline template which quickly creates the topics and/or subtopics in your outline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slow">
    <p:wipe dir="l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              </a:t>
            </a: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reating a Paper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You can utilize your outline to help you set up the basic information for your pape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Just moving your outline to Google Docs does 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NOT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make it a paper.  There needs to be major work done from this point to make it into a well-written, coherent paper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ow to Move Note Card Information to NoodleTools </a:t>
            </a: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(click on link)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77" name="Picture 1" descr="sample-research-paper.jpg"/>
          <p:cNvPicPr/>
          <p:nvPr/>
        </p:nvPicPr>
        <p:blipFill>
          <a:blip r:embed="rId1"/>
          <a:stretch/>
        </p:blipFill>
        <p:spPr>
          <a:xfrm>
            <a:off x="1042920" y="741240"/>
            <a:ext cx="215604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               </a:t>
            </a: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Check it Out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09512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ttp://www.history.com/shows/life-after-people/videos/life-after-people-the-making-of-life-after-peopl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3" descr="invention.jpg"/>
          <p:cNvPicPr/>
          <p:nvPr/>
        </p:nvPicPr>
        <p:blipFill>
          <a:blip r:embed="rId1"/>
          <a:stretch/>
        </p:blipFill>
        <p:spPr>
          <a:xfrm>
            <a:off x="4386240" y="4572000"/>
            <a:ext cx="3433680" cy="16635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Century Gothic"/>
              </a:rPr>
              <a:t>What is a physics invention that has significantly affected your life and how was it created?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59880" y="10267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Research Questio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p:transition>
    <p:wipe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1685a"/>
                                      </p:to>
                                    </p:animClr>
                                    <p:set>
                                      <p:cBhvr>
                                        <p:cTn id="13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18080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Timeline for Paper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Day 1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Brainstorm for topic idea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Set up NoodleTools account for anyone that doesn’t have on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Learn How to Use NoodleTool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3d2d"/>
                </a:solidFill>
                <a:latin typeface="Century Gothic"/>
              </a:rPr>
              <a:t>Homework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: Finalize research topic</a:t>
            </a:r>
            <a:br>
              <a:rPr sz="2200"/>
            </a:b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slow">
    <p:wipe dir="l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Timeline Cont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6920" y="2169720"/>
            <a:ext cx="677736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Days 2-4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Research in computer lab. Create note cards and citations on NoodleTool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Homework Day 2--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omplete at least 10 note cards on NoodleTool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Homework Day 3--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omplete at least 20 note cards on NoodleTools and complete your thesi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Homework Day 4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--Share and Print Bibliography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slow"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Timeline Cont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By end of Day 5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--Complete,  share, and print outlin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Homework Days 5 +6/Class Day 6--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Write paper based upon note cards and outline created in NoodleTool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Day 7—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aper must be “shared” from Google Docs by the beginning of clas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Overall Rubric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7" name="Content Placeholder 1" descr="Research Paper Rubric.pdf"/>
          <p:cNvPicPr/>
          <p:nvPr/>
        </p:nvPicPr>
        <p:blipFill>
          <a:blip r:embed="rId1"/>
          <a:srcRect l="-21612" t="0" r="-21612" b="0"/>
          <a:stretch/>
        </p:blipFill>
        <p:spPr>
          <a:xfrm>
            <a:off x="-860400" y="1878120"/>
            <a:ext cx="11619000" cy="8770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1027080"/>
            <a:ext cx="702468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DHS Writing Rubric for Grade on the Actual Paper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9" name="Content Placeholder 6" descr="DHS Writing - Condensed Rubric copy.pdf"/>
          <p:cNvPicPr/>
          <p:nvPr/>
        </p:nvPicPr>
        <p:blipFill>
          <a:blip r:embed="rId1"/>
          <a:srcRect l="-42566" t="0" r="-42566" b="0"/>
          <a:stretch/>
        </p:blipFill>
        <p:spPr>
          <a:xfrm>
            <a:off x="-806400" y="1144440"/>
            <a:ext cx="11131560" cy="5864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Sign-In to NoodleTools for the First Tim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1" name="Content Placeholder 3" descr="noodletools.jpg">
            <a:hlinkClick r:id="rId1"/>
          </p:cNvPr>
          <p:cNvPicPr/>
          <p:nvPr/>
        </p:nvPicPr>
        <p:blipFill>
          <a:blip r:embed="rId2"/>
          <a:srcRect l="0" t="17371" r="0" b="17371"/>
          <a:stretch/>
        </p:blipFill>
        <p:spPr>
          <a:xfrm>
            <a:off x="2889360" y="2324160"/>
            <a:ext cx="3333600" cy="977760"/>
          </a:xfrm>
          <a:prstGeom prst="rect">
            <a:avLst/>
          </a:prstGeom>
          <a:ln w="0">
            <a:noFill/>
          </a:ln>
        </p:spPr>
      </p:pic>
      <p:sp>
        <p:nvSpPr>
          <p:cNvPr id="352" name="TextBox 8"/>
          <p:cNvSpPr/>
          <p:nvPr/>
        </p:nvSpPr>
        <p:spPr>
          <a:xfrm>
            <a:off x="2889360" y="3543480"/>
            <a:ext cx="3890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e68200"/>
                </a:solidFill>
                <a:uFillTx/>
                <a:latin typeface="Century Gothic"/>
                <a:hlinkClick r:id="rId3"/>
              </a:rPr>
              <a:t>http://www.noodletools.com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TextBox 9"/>
          <p:cNvSpPr/>
          <p:nvPr/>
        </p:nvSpPr>
        <p:spPr>
          <a:xfrm>
            <a:off x="1771200" y="35434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ebsite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TextBox 10">
            <a:hlinkClick r:id="rId4"/>
          </p:cNvPr>
          <p:cNvSpPr/>
          <p:nvPr/>
        </p:nvSpPr>
        <p:spPr>
          <a:xfrm>
            <a:off x="880920" y="4260960"/>
            <a:ext cx="736632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e68200"/>
                </a:solidFill>
                <a:uFillTx/>
                <a:latin typeface="Century Gothic"/>
                <a:hlinkClick r:id="rId5"/>
              </a:rPr>
              <a:t>How to Sign-in for 1</a:t>
            </a:r>
            <a:r>
              <a:rPr b="0" lang="en-US" sz="1800" spc="-1" strike="noStrike" u="sng" baseline="30000">
                <a:solidFill>
                  <a:srgbClr val="e68200"/>
                </a:solidFill>
                <a:uFillTx/>
                <a:latin typeface="Century Gothic"/>
                <a:hlinkClick r:id="rId6"/>
              </a:rPr>
              <a:t>st</a:t>
            </a:r>
            <a:r>
              <a:rPr b="0" lang="en-US" sz="1800" spc="-1" strike="noStrike" u="sng" baseline="30000">
                <a:solidFill>
                  <a:srgbClr val="e68200"/>
                </a:solidFill>
                <a:uFillTx/>
                <a:latin typeface="Century Gothic"/>
                <a:hlinkClick r:id="rId7"/>
              </a:rPr>
              <a:t> Tim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(click on link)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ake sure you sign in at school the first tim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Use the same user name as you use for your school accoun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wipe dir="l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Box 3"/>
          <p:cNvSpPr/>
          <p:nvPr/>
        </p:nvSpPr>
        <p:spPr>
          <a:xfrm>
            <a:off x="5187960" y="28116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6" name="Picture 4" descr="computer-pen-paper.jpg"/>
          <p:cNvPicPr/>
          <p:nvPr/>
        </p:nvPicPr>
        <p:blipFill>
          <a:blip r:embed="rId1"/>
          <a:stretch/>
        </p:blipFill>
        <p:spPr>
          <a:xfrm>
            <a:off x="66600" y="434880"/>
            <a:ext cx="8705880" cy="60534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oodleTools has a section for making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ote card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Bibliography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Outlin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onnects to Google Doc to Create a Paper from your Outlin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3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68200"/>
                </a:solidFill>
                <a:uFillTx/>
                <a:latin typeface="Century Gothic"/>
                <a:hlinkClick r:id="rId2"/>
              </a:rPr>
              <a:t>NoodleTools Overview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1200" spc="-1" strike="noStrike">
                <a:solidFill>
                  <a:srgbClr val="3e3d2d"/>
                </a:solidFill>
                <a:latin typeface="Century Gothic"/>
              </a:rPr>
              <a:t>(click on link)</a:t>
            </a:r>
            <a:endParaRPr b="0" lang="en-US" sz="1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   </a:t>
            </a:r>
            <a:br>
              <a:rPr sz="3600"/>
            </a:b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Basic Overview of NoodleTools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p:transition spd="slow">
    <p:wipe dir="l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2T17:59:41Z</dcterms:created>
  <dc:creator>Margaret Cameron-Hickey</dc:creator>
  <dc:description/>
  <dc:language>en-US</dc:language>
  <cp:lastModifiedBy>Margaret Cameron-Hickey</cp:lastModifiedBy>
  <dcterms:modified xsi:type="dcterms:W3CDTF">2012-07-24T18:33:55Z</dcterms:modified>
  <cp:revision>68</cp:revision>
  <dc:subject/>
  <dc:title>Research Paper on a Physical Science Topic</dc:title>
</cp:coreProperties>
</file>